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0E9-58EC-4F9F-825A-6987CC2CB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390-D080-47C3-8DF8-CBA0BAD1B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B27B-12A8-4913-9158-37C6636C82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F31-8545-4B5C-826E-BEEABE7D3F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32A1-A41D-4C24-9975-0ECCC55B67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AB7-3B56-4E5F-B648-4F96E2D760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06D-F5E3-4164-AA0A-782FFA673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0AF-565A-435A-B16D-ECEDD845B6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7D0-0913-492F-9AAC-6BB2E6C0E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C594-B2F4-4250-B817-B1AD44F04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024-72EE-4E0F-BD41-AA26BA0E4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1E96-DA2B-40B2-882A-7BDAB04FD5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957B-DE06-4DB3-9597-B456CBE65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EF79-D23F-4E95-A165-7A14F3138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0407-0541-44EA-B30E-2277D286B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4B08-4D70-4EAC-B8A1-24A260478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ED8D-00EA-4101-BB89-4129AF7D1A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B7B-B548-4435-850F-DDE526D7B3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D993-284F-43B2-9CDF-9AE64E6AC9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C446-D2D7-4564-91ED-85414EE53F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D86E-3B86-403B-99B3-4FABBA5117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C9F6-7CF8-4AFD-B4CE-5EA3C3B46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63EE-0B7D-494F-8BE3-77F06AE81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2E52-D392-4569-85DA-7A8987EDD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7761-9C35-48DF-BFAE-2734676FE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10EF-8CB3-4838-B066-1E393226D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04E3-74A1-4FC0-8AD9-78B9ABD458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8995-2C68-4ECC-8C57-04F6716F6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B762-5A87-44B2-9CE4-5FDBAF5B2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CBD5-8ED9-4F1F-A26A-C5907DCEB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A5FA-AA6E-46A1-BE6F-4FF100F0E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B383-4CAF-4CD4-A33D-BA811A84E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CF2A-F33C-4F12-B3D0-AA3DE7DFE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543-623E-431E-89C3-BBA78ED4B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652E-32BB-4FD3-AFD9-3367A2A01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9EDB-15E4-44DC-9962-BD1102B3C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06F-6331-4AAB-99CE-1E3DCF036177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0B7-6047-4DD3-A55B-EC65F09E9E8F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are certain farm products produced in particular area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611D-F701-45C7-9AC4-74D615C96C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red is dense population and light green is nearly as dense, going to royal blue and pink is definitely thin on the ground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of any reasons why a particular place in a particular colou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rcRect l="31740" t="9178" r="21746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9C2F-ACF1-46B0-9E78-4F92A51F1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rming and 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re any kind of farming that you would expect to take place near centres of population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that don’t need to be near centres of population  - in the pink bits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31740" t="9178" r="21746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B5DC-C5ED-407F-8B3E-DE96509457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 is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is that type of farming growth where it i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landscap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tempera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the rainfall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amount of people living nearb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a combination of all of them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30072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659640" y="3500280"/>
          <a:ext cx="1647720" cy="224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9640" y="3500280"/>
                    <a:ext cx="164772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4862-1E93-4606-8901-61D920DF1B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dark green area – they are sheep and beef catt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Also check out the WS – that has split that graph into 3 – one for rainfall – one for winter temps and one for summer temp – anything similar about the climate for all green area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A715-50D4-4BF4-9BF2-92154BE39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yellow area – that is arab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A31D-7858-4E05-A14E-96BB0B889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light green areas – that is dairy cattle – what are they fo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D648-58EF-4C64-BDA4-714C21B3C8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brown – that is mixed farming – what is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8D49-F9B2-45D3-8B6C-85EE25904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pink – that is market gardening – what does that produ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7316640" y="3500280"/>
          <a:ext cx="1648080" cy="224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16640" y="3500280"/>
                    <a:ext cx="1648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CFFE-19AE-451D-88F1-D521FA6A5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0" t="0" r="51799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0" t="13731" r="0" b="4370"/>
          <a:stretch/>
        </p:blipFill>
        <p:spPr>
          <a:xfrm>
            <a:off x="252360" y="0"/>
            <a:ext cx="4434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772D-59DC-4F9F-907C-0631155CA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will have this map and a link so you can look in more detai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are told something about the people who are buying the 4 farm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have to decide what they should produce and explain why!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021360" y="981000"/>
            <a:ext cx="29052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BDA5-6946-4889-AD22-0319F96DF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 know that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.many of you guys do not come from the UK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 climate is quite different from area to an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 landscape is variable too – some is flat and some is quite hill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these reasons, what is produced on farms varies quite a lot for such a small place – which makes a good place to look a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F18B-D06A-4276-A26B-324F50F15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is produced on farms in the UK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0" t="0" r="7792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1231920" y="2781360"/>
          <a:ext cx="2333520" cy="35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2781360"/>
                    <a:ext cx="23335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DE39-3055-4EDE-BAFD-621A7DA9D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1799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0" r="0" b="4370"/>
          <a:stretch/>
        </p:blipFill>
        <p:spPr>
          <a:xfrm>
            <a:off x="1417680" y="0"/>
            <a:ext cx="3781440" cy="6831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just to show you it not really as clear cut as the other map impl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1E79-74D9-4003-A16E-B37C3A196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e are now going to work out what we think each types of farm needs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0" t="0" r="7792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231920" y="2781360"/>
          <a:ext cx="2333520" cy="35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2781360"/>
                    <a:ext cx="23335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1974-41E5-46F4-9BF0-896915F11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76720" y="333360"/>
            <a:ext cx="208764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ld winters (&lt;5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) and cool summers and dri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ld winters and warm summers and dri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60280"/>
            <a:ext cx="26636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(&gt;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cool summers (&l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&amp;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and warm summers (&g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130840"/>
            <a:ext cx="2446200" cy="91404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&gt;800 mm it is w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067920"/>
            <a:ext cx="2487600" cy="131940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lue line is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 Jan line, E is 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3009960" y="163440"/>
            <a:ext cx="3795480" cy="5713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43640" y="2468520"/>
            <a:ext cx="2468520" cy="172476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red line is the 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verage July temp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664D-F5EE-48EE-ACC1-CE4E64AD0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called a relief ma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before we look at the relief or physical m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t’s just check you know where places are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366696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382A-ABE2-4935-9D16-9BFECF0B4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igh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mbrian Mountai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art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ennin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cottish High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uthern Up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Lake Distri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258083"/>
              <a:gd name="adj2" fmla="val 7116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2404440"/>
            <a:ext cx="504720" cy="652680"/>
          </a:xfrm>
          <a:prstGeom prst="wedgeEllipseCallout">
            <a:avLst>
              <a:gd name="adj1" fmla="val -237666"/>
              <a:gd name="adj2" fmla="val 7805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51640" y="3268080"/>
            <a:ext cx="432000" cy="652680"/>
          </a:xfrm>
          <a:prstGeom prst="wedgeEllipseCallout">
            <a:avLst>
              <a:gd name="adj1" fmla="val -241837"/>
              <a:gd name="adj2" fmla="val 73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3052080"/>
            <a:ext cx="431640" cy="652680"/>
          </a:xfrm>
          <a:prstGeom prst="wedgeEllipseCallout">
            <a:avLst>
              <a:gd name="adj1" fmla="val 450333"/>
              <a:gd name="adj2" fmla="val 4889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2053440"/>
            <a:ext cx="432000" cy="652680"/>
          </a:xfrm>
          <a:prstGeom prst="wedgeEllipseCallout">
            <a:avLst>
              <a:gd name="adj1" fmla="val 268314"/>
              <a:gd name="adj2" fmla="val 49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5860440"/>
            <a:ext cx="432000" cy="652680"/>
          </a:xfrm>
          <a:prstGeom prst="wedgeEllipseCallout">
            <a:avLst>
              <a:gd name="adj1" fmla="val 414277"/>
              <a:gd name="adj2" fmla="val -7480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4996800"/>
            <a:ext cx="431640" cy="652680"/>
          </a:xfrm>
          <a:prstGeom prst="wedgeEllipseCallout">
            <a:avLst>
              <a:gd name="adj1" fmla="val 394416"/>
              <a:gd name="adj2" fmla="val 168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91A4-95EF-46C8-A15C-D980B9EBA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96872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low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entral lowlands of Scot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heshire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e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ast Angli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idland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473500"/>
              <a:gd name="adj2" fmla="val 85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4420440"/>
            <a:ext cx="504720" cy="652680"/>
          </a:xfrm>
          <a:prstGeom prst="wedgeEllipseCallout">
            <a:avLst>
              <a:gd name="adj1" fmla="val -171949"/>
              <a:gd name="adj2" fmla="val 2237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12000" y="3556800"/>
            <a:ext cx="432000" cy="652680"/>
          </a:xfrm>
          <a:prstGeom prst="wedgeEllipseCallout">
            <a:avLst>
              <a:gd name="adj1" fmla="val -128597"/>
              <a:gd name="adj2" fmla="val 1182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2980440"/>
            <a:ext cx="432000" cy="652680"/>
          </a:xfrm>
          <a:prstGeom prst="wedgeEllipseCallout">
            <a:avLst>
              <a:gd name="adj1" fmla="val 491879"/>
              <a:gd name="adj2" fmla="val 16085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259720"/>
            <a:ext cx="431640" cy="652680"/>
          </a:xfrm>
          <a:prstGeom prst="wedgeEllipseCallout">
            <a:avLst>
              <a:gd name="adj1" fmla="val 288916"/>
              <a:gd name="adj2" fmla="val 5104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7418-7175-4E42-9F4F-25ADC2EF8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6:02Z</dcterms:created>
  <dc:creator>Lindy</dc:creator>
  <dc:description/>
  <dc:language>en-US</dc:language>
  <cp:lastModifiedBy>Lindy</cp:lastModifiedBy>
  <dcterms:modified xsi:type="dcterms:W3CDTF">2009-02-26T13:29:18Z</dcterms:modified>
  <cp:revision>5</cp:revision>
  <dc:subject/>
  <dc:title>Why are certain farm products produced in particular area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